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8EC41-736C-4CED-8602-454BC9E24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E95F2-03CF-4CED-AA5B-F6CEB3DA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99264-9B0C-4F62-883C-ADBC07AAA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4632E-8575-4103-9154-B03153296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6B01-ADBA-4643-90EB-537394BA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3546-ACC0-4332-B770-246769B4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1FF8-D113-4572-AD22-CD280F3F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89E89-D095-4605-820D-364B2CD5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3750-663D-44F3-AEF0-4E5FA3F92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D603-223E-4F03-BCC0-14E6CC0E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D2C0-C342-4D88-8DE0-80442CC6E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679B-A737-46E5-B0C6-E1D1A57C2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A612-6BA6-4EC5-AC38-BBCF4CB64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 Clement’s </a:t>
            </a:r>
            <a:br>
              <a:rPr sz="4000"/>
            </a:br>
            <a:r>
              <a:rPr b="0" lang="en-US" sz="4000" spc="-1" strike="noStrike">
                <a:solidFill>
                  <a:srgbClr val="000000"/>
                </a:solidFill>
                <a:latin typeface="Arial"/>
              </a:rPr>
              <a:t>Last Videoconference </a:t>
            </a:r>
            <a:br>
              <a:rPr sz="4000"/>
            </a:br>
            <a:r>
              <a:rPr b="0" lang="en-US" sz="4000" spc="-1" strike="noStrike">
                <a:solidFill>
                  <a:srgbClr val="000000"/>
                </a:solidFill>
                <a:latin typeface="Arial"/>
              </a:rPr>
              <a:t>with </a:t>
            </a:r>
            <a:br>
              <a:rPr sz="4000"/>
            </a:br>
            <a:r>
              <a:rPr b="0" lang="en-US" sz="4000" spc="-1" strike="noStrike">
                <a:solidFill>
                  <a:srgbClr val="000000"/>
                </a:solidFill>
                <a:latin typeface="Arial"/>
              </a:rPr>
              <a:t>Lewis and Clark Then and Now</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 Clatsop</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December 1805. The Corps has arrived at the Pacific Ocean. But they have arrived too late to take a ship back to Washington, D.C. and too late to begin the trek back over land as well. They have made their choice of location and now must begin to build their winter quarters, and it will be a rainy winter indeed the Corps spends in Fort Clatsop. In this program join us for a virtual field trip to the restored Fort Clatsop, learn how the Corps spent their days, the people they met, and the preparations they made for their historic return East. Learn also about the archeoligical dig that has been happening this month as a result of the recent fire at the Fort and hear about the new plans for rebuilding the burned landma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MVC-003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MVC-002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MVC-005S"/>
          <p:cNvPicPr/>
          <p:nvPr/>
        </p:nvPicPr>
        <p:blipFill>
          <a:blip r:embed="rId1"/>
          <a:stretch/>
        </p:blipFill>
        <p:spPr>
          <a:xfrm>
            <a:off x="68400" y="68400"/>
            <a:ext cx="9075600" cy="680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VC-006S"/>
          <p:cNvPicPr/>
          <p:nvPr/>
        </p:nvPicPr>
        <p:blipFill>
          <a:blip r:embed="rId1"/>
          <a:stretch/>
        </p:blipFill>
        <p:spPr>
          <a:xfrm>
            <a:off x="135000" y="135000"/>
            <a:ext cx="9009000" cy="675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MVC-007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VC-009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MVC-010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07:14Z</dcterms:created>
  <dc:creator>ART</dc:creator>
  <dc:description/>
  <dc:language>en-US</dc:language>
  <cp:lastModifiedBy>dfucoloro</cp:lastModifiedBy>
  <dcterms:modified xsi:type="dcterms:W3CDTF">2012-05-25T14:24:33Z</dcterms:modified>
  <cp:revision>3</cp:revision>
  <dc:subject/>
  <dc:title>St. Clement’s  Last Videoconference  with  Lewis and Clark Then and Now</dc:title>
</cp:coreProperties>
</file>